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35D-3BF6-4DD5-B43B-51E242A6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9B9-3639-4939-86C5-FB9EAD35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F18-2CB3-4E50-94B6-E340928A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D15-FB09-400A-8AE1-4CAB4799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E16-51B6-4379-BB81-33456D95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B04-01C8-4C49-A4AA-AE95E9FE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BF6-5A72-4142-B284-46292684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47E-84BE-4EE6-BEA0-BD9BFB9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05E-D07D-4DE4-A249-232F25DB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6C6-1BC3-462A-A27B-67ECAA49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D74-6335-4C40-9181-905454D8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CA1-C2FC-4B04-B751-3770FA7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AD67-F7C9-4FD9-BE3E-4A2F64B7A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Balancing Act: Government Intervention and Individual Righ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Brief Economic History of the United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655308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After the Civil Wa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England, the middle-Atlantic states, and the mid-west were poised for major industrial expansion and experienced significant economic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outh remained primarily an agriculture region and experienced economic doldrums until the early 196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National Railroad Network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letion of the transcontinental rail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ed States had   10,000 miles of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ited States had 164,000 miles of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made possible mass production, mass marketing, and mass consumption, which brought the country together into a huge social and economic u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made it possible to go almost anywhere in the U.S. by train except in the south (i.e.,  transcontinental lines by-passed the sou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severely retarded its economic development well into the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entu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Age of the Industrial Capitalis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st quarter of the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 was the age of the industrial capit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negie (ste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Pont (chemic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cCormick (farm equi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ckefeller (o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American Economy: 1900 through WW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til the last quarter of the 19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, American economic history was largely agri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eginning of the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 witnessed a shift to manufactu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the end of WW I, agriculture played a relatively minor role in our economic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45820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dustrial Developm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the turn of the 2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 was primarily an industrial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wer than 4 of 10 people lived on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.S. was among the world leaders in production of steel, coal, steamships, textiles, apparel, chemicals, and agricultural machin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 had a positive trad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 exported most of her agricultural surpl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 began to export manufactured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dustrial Development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  was on the way to becoming the world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first mass consumption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development of the automobile industry was right around the co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Industrial Development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first plane would soon be flying at Kitty Haw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rcial aviation was still a few decades a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n technological progress made possible the era of mass consumption and higher living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By WWI the U.S. Had Emerged as the Worlds Leading Industrial Power because of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ts technological t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A large agricultural su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he world</a:t>
            </a:r>
            <a:r>
              <a:rPr b="1" lang="ja-JP" sz="2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s first universal public edu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ts available entrepreneurial 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he fact that the U.S. was kept out of harm</a:t>
            </a:r>
            <a:r>
              <a:rPr b="1" lang="ja-JP" sz="2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s way during World Wa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457200" y="2379600"/>
            <a:ext cx="3809880" cy="3792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American Economy between the Wa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oaring Twen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at 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 D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Roaring Twenti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ually began and ended with de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in 1920 consumers began cutting back on purc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were upset with high prices (problem with inf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Reserve tightened credit (i.e.,decreased the money supp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Government reduced spending (i.e., cut the budget deficit to 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ailers curtailed purchases (i.e., wholesale prices dropped 4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ult?  A depressed econom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Essential Question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Question for u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Have the actions of the national government, state governments, private individuals and companies, and non-governmental groups created the right balance between economic opportunities for individuals and the welfare (well-being) of all of the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Great Depress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ed with the August 1929 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the stock market not crashed and had the federal government acted more quickly, this might have been a fairly short rec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conomy hit bottom in March, 19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output was one-third what it was in 19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icial unemployment was 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 million Americans were out of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pulation was less than ½ its presen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1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Recession of 1937-38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expansion began in March 1933 and lasted until May 19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put however did not reach 1929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 million people were still unemployed in 19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ystem similar to toda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workfare (work for your welfare check) was put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6 million people were put to work on public works typ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Recession of 1937-38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ot of credit goes to Franklin D. Roosevel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Dea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dministration for the 1933 – 1937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s were re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overnment confiscated America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g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ecurities and Exchange Commission (SEC) came into b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Deposit Insurance Commission (FDIC) was 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unemployment insurance benefit program wa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cial Security System wa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was the most significant 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hat Went Wrong in 1937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ederal Reserve greatly tightened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duced the money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osevelt administration suddenly got the urge to balance the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ould have made sense during an economic boom but not when the unemployment rate was 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a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ustrial production to fall by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ve million more people to be put out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hat Went Right in 1938-41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pril, 1938 the Federal Reserve and the Roosevelt Administration reverse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r broke out in Europe in 19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 mobilized in 1940 – 41 and then entered the war on December 7, 19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 was back on the road to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hat Finally Brought the United States Out of the Great Depression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assive federal government spend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at was needed to prepare for and fight World War I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was deficit spending (borrowed mon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other words the federal budget ran a def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orld War II to Vietna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050480"/>
            <a:ext cx="807732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ntry that emerged from WW II was very different from what it had been four years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sperity had replaced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lation was now the number one economic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.S. accounted for half of the worl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manufacturing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just 7% of the world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.S. and the Soviet Union were the only superpowers left 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World War II to Vietnam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U. S. spent tens of billions of dollars to prop up the economies of Western Europe and 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spent hundreds of billions more for their def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 WW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.S. has expended 6% of  national output on def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oviet Union expended at least 18% of national output on defense, which contributed to its collapse in 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The 1940s: World War II and Peacetime Prosperity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W II required a total national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consumed half of the natio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mobilized 12 million men and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unemployment rate fell below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39 – 19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put of goods and services dou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vernment spending rose more than 4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ly for defen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conomy grew by 10 – 11% a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government instituted wage and price controls and issued ration coupons for meat, butter, gasoline, and other sta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siness and workers strived to produce goods of the highest quality possible, believing it a prerequisite to win the w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381880" y="6477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026"/>
          <p:cNvSpPr/>
          <p:nvPr/>
        </p:nvSpPr>
        <p:spPr>
          <a:xfrm>
            <a:off x="3808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27"/>
          <p:cNvSpPr/>
          <p:nvPr/>
        </p:nvSpPr>
        <p:spPr>
          <a:xfrm>
            <a:off x="152280" y="152280"/>
            <a:ext cx="9144000" cy="68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Annual Percentage Growth of U. S. Output of Goods and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28"/>
          <p:cNvSpPr/>
          <p:nvPr/>
        </p:nvSpPr>
        <p:spPr>
          <a:xfrm>
            <a:off x="304920" y="9144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29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1030"/>
          <p:cNvSpPr/>
          <p:nvPr/>
        </p:nvSpPr>
        <p:spPr>
          <a:xfrm>
            <a:off x="5929200" y="3733920"/>
            <a:ext cx="1666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031"/>
          <p:cNvSpPr/>
          <p:nvPr/>
        </p:nvSpPr>
        <p:spPr>
          <a:xfrm>
            <a:off x="6586560" y="4172040"/>
            <a:ext cx="166680" cy="152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32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034"/>
          <p:cNvGraphicFramePr/>
          <p:nvPr/>
        </p:nvGraphicFramePr>
        <p:xfrm>
          <a:off x="2514600" y="2209680"/>
          <a:ext cx="413532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0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09680"/>
                    <a:ext cx="413532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035"/>
          <p:cNvGraphicFramePr/>
          <p:nvPr/>
        </p:nvGraphicFramePr>
        <p:xfrm>
          <a:off x="2286000" y="2133720"/>
          <a:ext cx="4135320" cy="24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10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133720"/>
                    <a:ext cx="413532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1036" descr="A:\Graphic1.JPG"/>
          <p:cNvPicPr/>
          <p:nvPr/>
        </p:nvPicPr>
        <p:blipFill>
          <a:blip r:embed="rId5"/>
          <a:stretch/>
        </p:blipFill>
        <p:spPr>
          <a:xfrm>
            <a:off x="304920" y="1295280"/>
            <a:ext cx="8534160" cy="461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Graphing American Economic Histo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: Visually depict using some sort of graph the American economy in the 19th  and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entu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graph by dec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ction of your graph needs to in some way indicate the actions of the 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national government, state governments, private individuals and companies, and non-governmental group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impact it had on 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economic opportunities for individuals and the welfare (well-being) of all of the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uburbanization of America after WW I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elve million men and several hundred thousand women returned to civilian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was a tremendous shortage of 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.A. offered affordable mortg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% interest and nothing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HA supplemented this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asiest place to build was outside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required roads and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ederal Government subsidized an interstate highway network along with state freeways, highways, roads, and local street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81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1940s and 1950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big construction b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utomobile industry prosp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ied America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pent up demand and became the worl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leading exporter of c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th rates shot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ress passed the G.I. Bill of Rights (194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d loans for home mortgages, business, and 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C:\Program Files\Common Files\Microsoft Shared\Clipart\cagcat50\bd04956_.wmf"/>
          <p:cNvPicPr/>
          <p:nvPr/>
        </p:nvPicPr>
        <p:blipFill>
          <a:blip r:embed="rId1"/>
          <a:stretch/>
        </p:blipFill>
        <p:spPr>
          <a:xfrm>
            <a:off x="304920" y="0"/>
            <a:ext cx="3430440" cy="2468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1950s: The Eisenhower Yea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dvent of television and the Korean War stimulated the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isenhower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ed the Korean War and 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de no attempt to undo the legacies of the New 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w the role of the federal government as a major economic player became a permanent 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oaring Sixties: The Years of Kennedy and Johns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untry was in recession when Kennedy was 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was assassinated and replaced by Johnson in 19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son enacted a tax cut planned by Kenn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ax cut and the spending on the Vietnam war ended the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ederal budget deficit and the money supply g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lation began and lasted until the mid-8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oaring Sixties: The Years of Kennedy and Johnson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ohnson enacted three programs in 1965 that would have profound, long-term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od stamp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agging Seventies: The Stagflation Deca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xo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s reelected in 19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ed problems of inflation and ending the Vietnam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ted wage and price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agging Seventies: The Stagflation Decade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73 Economic disaster be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C quadrupled oil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.S. had the worst recession since the 193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.S. faced double digit 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U.S. experienced stag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gn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xon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successor, Gerald Ford, had little success in dampening 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Sagging Seventies: The Stagflation Decade</a:t>
            </a:r>
            <a:br>
              <a:rPr sz="4400"/>
            </a:b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immy Carter was elected President in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presided over mounting budget defic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ney supply grew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lation rose almost to double digi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faced the Iranian revolution in 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soline prices went through the cei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October, 1979 the Fed stopped the growth of the money 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January, 1980 the country was in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inflation rate was 1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ati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productivity growth was at 1%, one-third the postwa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1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1980s:  The Age of Reaga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14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-Side versus Keynesian 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bjective of both is to stimulat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nesian 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overnment should spend more mon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would give business the incentive to produc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ly-Side econo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overnment should cut tax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s would then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incentive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of their own money to spend and thus business would produce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1980s:  The Age of Reagan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ntry was in a severe recess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the worst since WW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mployment reached nearly 11% in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lation had been brought und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mployment rates began f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seemed to stick around 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cits were a problem: $79 billion in 1981 and $290 billion in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taxes wer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income taxes wer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ummary of Government Interven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you have completed your graph summarize how government intervention in the economy during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has created or not created opportunities for citiz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George Bus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my lips: no new taxe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h won the election of 19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years later, he agreed to a major tax incre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dly to reduce the def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, the deficit continued to 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recession began in early 1992 and ended late in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h failed in his bid for re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C:\Program Files\Common Files\Microsoft Shared\Clipart\cagcat50\bd06982_.wmf"/>
          <p:cNvPicPr/>
          <p:nvPr/>
        </p:nvPicPr>
        <p:blipFill>
          <a:blip r:embed="rId1"/>
          <a:stretch/>
        </p:blipFill>
        <p:spPr>
          <a:xfrm>
            <a:off x="6858000" y="5029200"/>
            <a:ext cx="1820880" cy="876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o the Millennium and Beyon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i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ce the demise of the Soviet Union should the United States have continued to spend $300 billion or more a year on defen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ldn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some of these resources be used to lessen some of our many social and economic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3059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4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o the Millennium and Beyond</a:t>
            </a:r>
            <a:br>
              <a:rPr sz="4400"/>
            </a:br>
            <a:r>
              <a:rPr b="1" lang="en-US" sz="32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pite all our economic growth, real wages for most workers today are slightly less than they were in 1973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t closings and downsizing have done away with millions of well-paid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has been a weakening of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alternative cheaper workers, which exerts downward pressure on w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is an increasing tendency for business to replace full-time workers with temporary and part-time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-third of the new jobs created since 1991 have been part-time or 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4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3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The </a:t>
            </a:r>
            <a:r>
              <a:rPr b="1" lang="ja-JP" sz="40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New Economy</a:t>
            </a:r>
            <a:r>
              <a:rPr b="1" lang="ja-JP" sz="4000" spc="-1" strike="noStrike">
                <a:solidFill>
                  <a:srgbClr val="339933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 of the Ninetie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was a decade of compu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a decade of major technologic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close of the century the unemployment rate was 4.1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late 90s, the economy was growing at a rate of 5.0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ericans spent money as if there was no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growing trade deficit ($300 bill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annot go on indefini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5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5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0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The </a:t>
            </a:r>
            <a:r>
              <a:rPr b="1" lang="ja-JP" sz="40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New Economy</a:t>
            </a:r>
            <a:r>
              <a:rPr b="1" lang="ja-JP" sz="4000" spc="-1" strike="noStrike">
                <a:solidFill>
                  <a:srgbClr val="339933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 of the Nineties</a:t>
            </a:r>
            <a:br>
              <a:rPr sz="4000"/>
            </a:br>
            <a:r>
              <a:rPr b="1" lang="en-US" sz="40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1990s are often compared with the 192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both decades the stock market soar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 fortunes were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1920s, 1 in 10 Americans owned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1990s, 1 in 2 Americans owned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3818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The American Economy in the 19</a:t>
            </a:r>
            <a:r>
              <a:rPr b="1" lang="en-US" sz="4400" spc="-1" strike="noStrike" baseline="30000">
                <a:solidFill>
                  <a:srgbClr val="339933"/>
                </a:solidFill>
                <a:latin typeface="Times New Roman"/>
              </a:rPr>
              <a:t>th</a:t>
            </a: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icultur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ational Railroad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ge of the Industrial Capita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Agriculture Developm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 the start of the American revolution, America had an almost limitless supply of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ine of ten Americans lived on a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hundred years later, fewer than one in two 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day, fewer than two in one hund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two feed America and create a huge surplus that helps to feed the rest of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bundance of land was the most influential factor in our economic development  in the 1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ught millions of im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raged large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raged rapid technologic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Agriculture Development</a:t>
            </a:r>
            <a:br>
              <a:rPr sz="4400"/>
            </a:br>
            <a:r>
              <a:rPr b="0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8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4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8 mill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16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5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32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1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5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45820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Agriculture Development</a:t>
            </a:r>
            <a:br>
              <a:rPr sz="4400"/>
            </a:b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(Continued)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large and growing population was extremely important as a market for our farmers and manufactur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eign countries also targeted the American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pan targeted the American market after WW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Times New Roman"/>
              </a:rPr>
              <a:t>Economic Conflicts Leading to the Civil War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ed from high protective ta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 an economy based on 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sed extension of slavery westw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960" y="1456920"/>
            <a:ext cx="38098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d to pay higher prices than they would have paid for British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Had an economy based on slave labor (agricul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Knew this would be politically unte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534520" y="6400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654192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by The McGraw-Hill Companies, Inc.  All rights reser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12:05:16Z</dcterms:created>
  <dc:creator>Microsoft Office User</dc:creator>
  <dc:description/>
  <dc:language>en-US</dc:language>
  <cp:lastModifiedBy>Microsoft Office User</cp:lastModifiedBy>
  <cp:lastPrinted>2016-03-18T17:25:53Z</cp:lastPrinted>
  <dcterms:modified xsi:type="dcterms:W3CDTF">2016-03-21T17:25:47Z</dcterms:modified>
  <cp:revision>5</cp:revision>
  <dc:subject/>
  <dc:title>Chapter 1</dc:title>
</cp:coreProperties>
</file>